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52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42.wmf" ContentType="image/x-wmf"/>
  <Override PartName="/ppt/media/image139.wmf" ContentType="image/x-wmf"/>
  <Override PartName="/ppt/media/image165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43.wmf" ContentType="image/x-wmf"/>
  <Override PartName="/ppt/media/image166.wmf" ContentType="image/x-wmf"/>
  <Override PartName="/ppt/media/image14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144.wmf" ContentType="image/x-wmf"/>
  <Override PartName="/ppt/media/image151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56.wmf" ContentType="image/x-wmf"/>
  <Override PartName="/ppt/media/image179.wmf" ContentType="image/x-wmf"/>
  <Override PartName="/ppt/media/image85.wmf" ContentType="image/x-wmf"/>
  <Override PartName="/ppt/media/image17.wmf" ContentType="image/x-wmf"/>
  <Override PartName="/ppt/media/image142.wmf" ContentType="image/x-wmf"/>
  <Override PartName="/ppt/media/image55.wmf" ContentType="image/x-wmf"/>
  <Override PartName="/ppt/media/image178.wmf" ContentType="image/x-wmf"/>
  <Override PartName="/ppt/media/image13.wmf" ContentType="image/x-wmf"/>
  <Override PartName="/ppt/media/image81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36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60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33.wmf" ContentType="image/x-wmf"/>
  <Override PartName="/ppt/media/image3.wmf" ContentType="image/x-wmf"/>
  <Override PartName="/ppt/media/image155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F3FA-6B50-478E-9888-9199601A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66B7-7DC0-4C9B-A467-A89A0A70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E6D6-A71D-4B9D-8ECA-6BBF4E5F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E06B-20FD-4C2A-A9B5-8196EDF8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8484-40CB-41F3-A4B3-802B297B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5C05-369F-46F0-83F4-221B300E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BB4F-1555-432B-B796-8DD6C5D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9CAA-A089-4276-A740-B887ECCE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19BB-80C8-43B8-BEE1-19A97449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71C7-668E-48FF-8DFD-37874322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A332-777B-46D1-AC52-F08295E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E103-1766-421E-9F7C-1DEB66B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DA1-F924-4C06-A490-803A36A2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C927-BEC7-4DAC-9905-BA1E1B37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2CB8-16DF-48F7-9B5E-60609F1C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2C98-A19A-493E-91A4-1694A0C7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CB2D-57E2-46A3-BD7A-3B24658D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9355-1C08-4E6C-BEDB-294A440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8038-B73F-4A09-B288-6D1C616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82E6-9BE9-4142-8418-37F9D3A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60BB-D38D-4625-BC8D-FE44852E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37E0-2AB9-4C48-8D6A-DAE6030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B3F8-4598-4901-969E-C14117B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4860-CFD0-4566-82B3-E0D89F5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5C6-1C51-4703-A602-92944A99F86D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6523-475F-40CF-86E9-5AFE5ACC99F7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5.wmf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wmf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7.wmf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3.wmf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8.wmf"/><Relationship Id="rId3" Type="http://schemas.openxmlformats.org/officeDocument/2006/relationships/slideLayout" Target="../slideLayouts/slideLayout10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0.wmf"/><Relationship Id="rId3" Type="http://schemas.openxmlformats.org/officeDocument/2006/relationships/slideLayout" Target="../slideLayouts/slideLayout1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1.wmf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slideLayout" Target="../slideLayouts/slideLayout10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wmf"/><Relationship Id="rId3" Type="http://schemas.openxmlformats.org/officeDocument/2006/relationships/slideLayout" Target="../slideLayouts/slideLayout10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wmf"/><Relationship Id="rId3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slideLayout" Target="../slideLayouts/slideLayout10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8.wmf"/><Relationship Id="rId3" Type="http://schemas.openxmlformats.org/officeDocument/2006/relationships/slideLayout" Target="../slideLayouts/slideLayout10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1.wmf"/><Relationship Id="rId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4.wmf"/><Relationship Id="rId3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6.wmf"/><Relationship Id="rId3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wmf"/><Relationship Id="rId3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2.wmf"/><Relationship Id="rId3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4.wmf"/><Relationship Id="rId3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5.wmf"/><Relationship Id="rId3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6.wmf"/><Relationship Id="rId3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7.wmf"/><Relationship Id="rId3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0.wmf"/><Relationship Id="rId3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8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0920" y="1828800"/>
            <a:ext cx="6580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cccce6"/>
                </a:solidFill>
                <a:latin typeface="Garamond MT"/>
              </a:rPr>
              <a:t>MINORITĂŢI NAŢIONALE ÎN ROMÂNIA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 MT"/>
              </a:rPr>
              <a:t>REPREZENTĂRI, INTOLERANŢĂ, DISCRIMINAR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joritarii în propria oglind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în oglinda celorlal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: </a:t>
            </a:r>
            <a:br>
              <a:rPr sz="1800"/>
            </a:b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Vă rugăm să alegeţi trei dintre acestea care îi caracterizează cel mai bine pe ROMÂNI (trei alegeri posibile)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1628640"/>
          <a:ext cx="827244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27244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98080" y="5516640"/>
            <a:ext cx="8649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ativ cu modul în care sunt apreciaţi de către concetăţenii de altă etnie, majoritarii români se consideră în mai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ăsură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imitori, harnici, inteligenţi şi religioş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De asemen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sun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ritic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ţă d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ei î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şi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ă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ându-se mai ta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ăsător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oritarii, în schimb, apreciază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ajoritari în mai mare măsură decât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ân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î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ş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msecade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ia, ospitalitatea (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ân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imitori), religiozita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u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gradul de civilizaţ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otuş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majoritarii sunt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cepuţ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a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ul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d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ăt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oritari ca oame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îndri, uniţ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într-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ăsură redusă –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stil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u care dintre afirmaţiile următoare sunteţi mai degrabă de acord?</a:t>
            </a:r>
            <a:br>
              <a:rPr sz="24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Subiecţ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u care dintre afirmaţiile următoare sunteţi mai degrabă de acord?</a:t>
            </a:r>
            <a:br>
              <a:rPr sz="24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Subiecţ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br>
              <a:rPr sz="24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Numai repondenţi româ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Numai repondenţi româ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br>
              <a:rPr sz="2400"/>
            </a:b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Procentaj ACORDU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repondenţi român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br>
              <a:rPr sz="2400"/>
            </a:b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Procentaj DEZACORDU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pondenţi român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n câte ştiţi dvs., în România, evreii au suferit mai mult decât românii şi maghiarii în timpul celui de-al doilea război mond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n câte ştiţi Dvs., în România, romii (ţiganii) au suferit mai mult decât românii şi maghiarii în timpul celui de-al doilea război mond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n câte ştiţi Dvs., în timpul celui de-al doilea război mondial, autorităţile române au participat sau nu au participat la exterminarea evreil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n câte ştiţi Dvs., în timpul celui de-al doilea război mondial, autorităţile române au participat sau nu au participat la exterminarea romilor (ţiganilor)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MAGHIARI (trei alegeri posibile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557360"/>
          <a:ext cx="82296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despre evre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despre evre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despre evrei ?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cente A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despre evrei ?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cente DEZA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despre evrei ?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cente NS/N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centaj A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centaj DEZA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Când există puţine locuri de munc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MAGHIAR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12080" y="58975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Şi în caracterizarea maghiarilor de către ne-maghiari există evoluţii: ei sunt mai puţin remarcaţi ca altădată pr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ărnic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msecăden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ind în schimb mai frecvent priviţi ca solidari între ei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ţ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şi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ândri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r totodată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vilizaţ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t oameni din ţări mai sărace decât România care vin să muncească la noi în ţară. Ce credeţi că ar trebui să facă Guvern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um apreciaţi numãrul imigranţilor în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omânia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redeţi că pentru binele societăţii este de dorit ca imigran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24000" y="2133720"/>
          <a:ext cx="84643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84643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, privind participarea UDMR la guvern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, privind participarea UDMR la guvern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ţi auzit despre următoarele instituţ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care naţiune are specificul ei. Care este opinia dvs. în ceea ce priveş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ferenţele până la 100% reprezintă NS/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ROMI / ŢIGAN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trei alegeri posibile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620720"/>
          <a:ext cx="850752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0720"/>
                    <a:ext cx="850752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ferenţele până la 100% reprezintă NS/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-ar deranja să aveţi ca vecini....?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(Procentaje răspunsuri: “DA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-ar deranja să aveţi ca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şi colegi de muncă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....?</a:t>
            </a:r>
            <a:br>
              <a:rPr sz="3600"/>
            </a:b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Procentaje răspunsuri: “D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-ar deranja să aveţi ca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prieteni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....?</a:t>
            </a:r>
            <a:br>
              <a:rPr sz="3600"/>
            </a:b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Procentaje răspunsuri: “D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-ar deranja să aveţi ca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rude prin alianţă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....?</a:t>
            </a:r>
            <a:br>
              <a:rPr sz="3600"/>
            </a:b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Procentaje răspunsuri: “D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LOCUL DE MUNCĂ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A LOCUL DE MUNCĂ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826920" y="1981080"/>
          <a:ext cx="727416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1080"/>
                    <a:ext cx="727416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ele trei alegeri însumate: Procentajele sunt raportate la totalul subiecţilor din eşa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A PRIMĂRI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ROMI (ŢIGAN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073880" y="6113520"/>
            <a:ext cx="813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ipurile negative privind romii sunt aceleaşi, cu distribuţii de accent uşor diferite: acum, ei sunt văzuţi mai m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ţ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urdar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şi cam la fel d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neş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înapoiaţ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 în 2002. Semnificativ – scade percepţi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zbinăr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mbri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pului şi se întăreşte aceea a solidarităţii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ţ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A PRIMĂRI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826920" y="1981080"/>
          <a:ext cx="727416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1080"/>
                    <a:ext cx="727416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ele trei alegeri însumate: Procentajele sunt raportate la totalul subiecţilor din eşa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CIRCUMSCRIPŢIA FINANCIARĂ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CIRCUMSCRIPŢIA FINANCIARĂ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826920" y="1981080"/>
          <a:ext cx="727416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1080"/>
                    <a:ext cx="727416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ele trei alegeri însumate: Procentajele sunt raportate la totalul subiecţilor din eşa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POLIŢI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POLIŢI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826920" y="1981080"/>
          <a:ext cx="727416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1080"/>
                    <a:ext cx="727416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ele trei alegeri însumate: Procentajele sunt raportate la totalul subiecţilor din eşa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MEDIC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MEDIC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826920" y="1981080"/>
          <a:ext cx="727416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1080"/>
                    <a:ext cx="727416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ele trei alegeri însumate: Procentajele sunt raportate la totalul subiecţilor din eşa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MAGAZI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i oameni sunt trataţi mai bine sau mai rău în diferite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mprejură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Gândindu-vă la următoarele categorii de oameni, cine credeţi că sunt trataţi mai ră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 MAGAZI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826920" y="1981080"/>
          <a:ext cx="727416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1080"/>
                    <a:ext cx="727416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ele trei alegeri însumate: Procentajele sunt raportate la totalul subiecţilor din eşa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În ultima vreme în România sunt din ce în ce mai multe reclame şi alte inscripţii scrise în limbi de circulaţie internaţională, mai ales engleză. Dvs. ce părere aveţi despre acest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EVREI (trei alegeri posibile)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773360"/>
          <a:ext cx="822960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73360"/>
                    <a:ext cx="822960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În ultima vreme în România sunt din ce în ce mai multe reclame şi alte inscripţii scrise în limbi de circulaţie internaţională, mai ales engleză. Dvs. ce părere aveţi despre acest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l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CUPAREA UNUI LOC DE MUNCĂ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l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CUPAREA UNUI LOC DE MUNCĂ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br>
              <a:rPr sz="2400"/>
            </a:br>
            <a:br>
              <a:rPr sz="24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CRIT 2006: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RE – MMT 200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900000" y="60213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79480" y="5969160"/>
            <a:ext cx="76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l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OLUŢIONAREA UNOR PROBLEME LA PRIMĂRI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l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RELAŢIILE CU INSTITUŢIILE FISCAL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l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RELAŢIILE CU POLIŢI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l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LEGEREA CONSILIULUI LOC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SUCCESUL ÎN AFACE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lo unde locuiţi dumneavoastră, credeţi că naţionalitatea cont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SUCCESUL ÎN AFACER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Care credeţi că este situaţia în cazul.... </a:t>
            </a:r>
            <a:br>
              <a:rPr sz="2000"/>
            </a:br>
            <a:br>
              <a:rPr sz="24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CRIT 2006: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RE – MMT 200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900000" y="60213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79480" y="5969160"/>
            <a:ext cx="76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că vă gândiţi la ultimii doi ani, vi s-a întâmplat vreodată să fiţi tratat într-un mod nedrept (să fiţi discriminat) din următoarele motiv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EVRE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12800" y="5826240"/>
            <a:ext cx="83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reii sunt percepuţi mai ales în termeni pozitivi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ligioşi, întreprinzători, inteligenţi, civilizaţ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Diferenţele de reprezent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acum în raport cu anul 2002 sunt min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că vă gândiţi la ultimii doi ani, vi s-a întâmplat vreodată să fiţi tratat într-un mod nedrept (să fiţi discriminat) din următoarele motiv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În opinia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s., în România, în general vorbi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, cine sunt mai bogaţi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611280" y="227664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În opinia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s., în România, în general vorbi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, cine au mai multă influenţă politică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611280" y="227664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În opinia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s., în România, în general vorbi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, cine se bucură de mai mult res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611280" y="227664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n expresiile următoare, care sunt acelea care descriu cel mai bine felul în care gândiţi despre dvs.? </a:t>
            </a:r>
            <a:br>
              <a:rPr sz="24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teţi alege mai multe variante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65120" y="1814400"/>
          <a:ext cx="8271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814400"/>
                    <a:ext cx="8271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n expresiile următoare, care sunt acelea care descriu cel mai bine felul în care gândiţi despre dvs.? </a:t>
            </a:r>
            <a:br>
              <a:rPr sz="24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teţi alege mai multe var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in expresiile următoare, care sunt acelea care descriu cel mai bine felul în care gândiţi despre dvs.?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“: </a:t>
            </a:r>
            <a:br>
              <a:rPr sz="1800"/>
            </a:br>
            <a:br>
              <a:rPr sz="1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utoidentificare după tipul de grup de apartenenţă</a:t>
            </a:r>
            <a:br>
              <a:rPr sz="28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doar subiecţii care s-au declarat la recensământ: “români”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in expresiile următoare, care sunt acelea care descriu cel mai bine felul în care gândiţi despre dvs.?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“: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utoidentificare după tipul de grup de apartenenţă</a:t>
            </a:r>
            <a:br>
              <a:rPr sz="28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doar subiecţii care s-au declarat la recensământ altceva decât români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amenii au opinii şi sentimente diferite în ceea ce priveşte ţara lor. Dvs. sunteţi de acord cu următoarea afirmaţie?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”Prefer să fiu cetăţean român decât să fiu cetăţean al oricărei alte ţări”.</a:t>
            </a:r>
            <a:br>
              <a:rPr sz="20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Procente. Diferenţele până la 100% reprezintă non-răspuns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in expresiile următoare, care sunt acelea care descriu cel mai bine felul în care gândiţi despre dvs.?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“:</a:t>
            </a:r>
            <a:br>
              <a:rPr sz="1800"/>
            </a:b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utoidentificare după tipul de grup de apartenenţă</a:t>
            </a:r>
            <a:br>
              <a:rPr sz="28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doar subiecţii care s-au declarat la recensământ: “maghiari”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unt multe lucruri pentru care trebuie să-mi fie ruşine că sunt cetăţean român”</a:t>
            </a:r>
            <a:br>
              <a:rPr sz="28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rocente. Diferenţele până la 100% reprezintă non-răspuns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umea ar fi mai bună dacă şi restul oamenilor ar fi ca românii”</a:t>
            </a:r>
            <a:br>
              <a:rPr sz="28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rocente din eşa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002240" y="599292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de în intensitate sentimentul mândriei de a fi româ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 tehn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inorităţile naţionale din România. Reprezentări, intoleranţă, discriminare” este un sondaj de opinie realizat de Colegiul Profesional de Sociologie „Max Weber”, în colaborare cu Centrul de Cercetare a Relaţiilor Interetnice (CCRI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ioada colectării datelor: 17 oct. – 5 noiembrie 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şantion reprezentativ pentru populaţia de peste 18 ani, neinstituţionalizată, din România. Interviurile au fost realizate la domiciliul subiecţil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alia eşantionului: 1170 subiecţi din toate regiunile României (Moldova, Muntenia, Oltenia, Dobrogea, Transilvania, Crisana-Maramureş, Banat, Bucureş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ip de selecţie a subiecţilor: eşantionare de tip probabilist, multistadială, stratificat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ariabilele de stratificare : tipul de rezidenţă (rural-urban), talia localităţii, statutul administrativ al localităţii, ponderea minorităţilor naţionale în reprezentare politică locală (după rezultul ultimelor alegeri), regiun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arja de eroare: +/- 2,9%, la un nivel de încredere de 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umea ar fi mai bună dacă şi restul oamenilor ar fi ca maghiarii din România”</a:t>
            </a:r>
            <a:br>
              <a:rPr sz="48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Procente din eşa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35120" y="5970600"/>
            <a:ext cx="80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În timp, apare o tendinţă de polarizare a opiniilor privind maghiarii: pe măsură ce scade numărul celor care nu au o opinie, creşte atât ponderea celor care simpatizează cu maghiarii, cât şi ponderea celor care de distanţează de e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umai subiecţii care s-au declarat ROMÂNI:</a:t>
            </a:r>
            <a:br>
              <a:rPr sz="2400"/>
            </a:b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“Lumea ar fi mai bună dacă şi restul oamenilor ar fi ca...” </a:t>
            </a:r>
            <a:br>
              <a:rPr sz="2400"/>
            </a:b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omâni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..Maghiarii din Româ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023840" y="589752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3320" y="5921280"/>
            <a:ext cx="817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in 2002 până în prezent a scăzut gradul de autoapreciere pozitivă a românil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tinzând în schimb să se polarizeze părerea acestora despre maghiarii din Româ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umai subiecţii care s-au declarat MAGHIARI:</a:t>
            </a:r>
            <a:br>
              <a:rPr sz="2400"/>
            </a:b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“Lumea ar fi mai bună dacă şi restul oamenilor ar fi ca...”</a:t>
            </a:r>
            <a:br>
              <a:rPr sz="2400"/>
            </a:b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..Români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..Maghiarii din Româ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10200" y="5921280"/>
            <a:ext cx="813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Simetric, şi la maghiarii ardeleni, gradul de autoapreciere pozitivă pare mai scăz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n 2006 faţă de 2002, îmbunătăţindu-se totodată părerea acestora despre româ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Oamenii ar trebui să-şi sprijine ţara chiar dacă lucrurile nu merg bine”</a:t>
            </a:r>
            <a:br>
              <a:rPr sz="28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rocente. Diferenţele până la 100% reprezintă non-răspunsu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 exprimând ACORDUL. Subiecţ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5120" y="1990800"/>
          <a:ext cx="827244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90800"/>
                    <a:ext cx="827244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 exprimând DEZACORDUL. Subiecţ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5120" y="1990800"/>
          <a:ext cx="8272440" cy="40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90800"/>
                    <a:ext cx="8272440" cy="40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 eşantionulu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ele de stratif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-684360" y="2205000"/>
          <a:ext cx="6336000" cy="36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2205000"/>
                    <a:ext cx="633600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24360" y="2187720"/>
          <a:ext cx="5832360" cy="364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187720"/>
                    <a:ext cx="583236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 exprimând INDECIZIA (NS/NR). Subiecţ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5120" y="1992240"/>
          <a:ext cx="82724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92240"/>
                    <a:ext cx="82724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926280" y="5897520"/>
            <a:ext cx="80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inuarea numărului celor fără o părere este factorul care contribuie la polarizarea opiniei membrilor grupului et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. 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99080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08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. 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. 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. 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 exprimând ACORDUL.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5120" y="1990800"/>
          <a:ext cx="8272440" cy="40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90800"/>
                    <a:ext cx="8272440" cy="40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752760" y="6093000"/>
            <a:ext cx="78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ste importantă turnura atitudinală spre sprijinirea eforturilor instituţionale de a dezvolta o identiate rom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e părere aveţi despre următoarele afirmaţii?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 exprimând DEZACORDUL.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5120" y="1990800"/>
          <a:ext cx="8272440" cy="40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90800"/>
                    <a:ext cx="8272440" cy="40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 ce măsură consideraţi că ar trebui să existe locuri rezervate pentru romi în cadrul LICEELOR?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 ce măsură consideraţi că ar trebui să existe locuri rezervate pentru romi în cadrul COLEGIILOR ŞI FACULTĂŢILOR?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biecţi care nu sunt de etnie rom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redeţi că este bine dacă statul maghiar..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ce etnie v-aţi declarat la ultimul recensământ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redeţi că este bine dacă statul maghiar..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redeţi că este bine dacă statul maghiar..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redeţi că este bine dacă statul maghiar..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redeţi că este bine dacă statul maghiar..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nte. Diferenţele până la 100% reprezintă non-răspunsuri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epondenţi: toţi subiecţi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redeţi că este bine dacă statul maghiar...” </a:t>
            </a:r>
            <a:br>
              <a:rPr sz="24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În formularea BRE – MMT 2002: „Credeţi că statul maghiar ar trebui...”)</a:t>
            </a:r>
            <a:br>
              <a:rPr sz="18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ocentaj A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3512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7760" y="5897520"/>
            <a:ext cx="857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şte în mod real suportul populaţiei majoritare din România pentru iniţiativele statului ungar faţă de minoritatea maghiar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face simţită o schimbare importantă de atitudine, care vizează pozitiv intervenţia Ungariei în favoarea minorită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hiare, cu excepţia - notabilă – a sprijinului acordat organizaţiilor politice ale maghiarilor din Români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redeţi că este bine dacă statul maghiar...” </a:t>
            </a:r>
            <a:br>
              <a:rPr sz="24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În formularea BRE – MMT 2002: „Credeţi că statul maghiar ar trebui...”)</a:t>
            </a:r>
            <a:br>
              <a:rPr sz="18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ocentaj DEZA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redeţi că este bine dacă statul maghiar...” </a:t>
            </a:r>
            <a:br>
              <a:rPr sz="24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În formularea BRE – MMT 2002: „Credeţi că statul maghiar ar trebui...”)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rocentaj NS/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709200" y="5897520"/>
            <a:ext cx="787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eaşi tendinţă de asumare mai clară din partea majorităţii a unei opinii faţă de maghiari confirmă că tendinţ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re a Intervenţiei statului ungar este într-o creştere reală faţă de anii precedenţ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În ce măsură credeţi că următoarele măsuri ar duce la îmbunătăţirea relaţiilor interetnice?</a:t>
            </a:r>
            <a:br>
              <a:rPr sz="20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piii de alte naţionalităţi să înveţe împreună cu copiii român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În ce măsură credeţi că următoarele măsuri ar duce la îmbunătăţirea relaţiilor interetnice?</a:t>
            </a:r>
            <a:br>
              <a:rPr sz="2000"/>
            </a:b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nterzicerea publicaţiilor sau emisiunilor TV care prezintă celelalte etnii intr-o lumină negativă.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În ce măsură credeţi că următoarele măsuri ar duce la îmbunătăţirea relaţiilor interetnice?</a:t>
            </a:r>
            <a:br>
              <a:rPr sz="28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cordarea unei autonomii administrative mai mari comunităţilor lo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În ce măsură sunteţi mulţumit de condiţiile dvs. actuale de viaţă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În ce măsură credeţi că următoarele măsuri ar duce la îmbunătăţirea relaţiilor interetnice?</a:t>
            </a:r>
            <a:br>
              <a:rPr sz="28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zonele în care predomină alte naţionalităţi, poliţia să fie alcătuită din cât mai multe persoane aparţinând acelor naţionalităţ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În ce măsură credeţi că următoarele năsuri ar duce la îmbunătăţirea relaţiilor interetnice?</a:t>
            </a:r>
            <a:br>
              <a:rPr sz="20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curajarea căsătoriilor între persoane de etnii dife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În ce măsură credeţi că următoarele măsuri ar duce la îmbunătăţirea relaţiilor interetnice?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piii români să poată învăţa la şcoală şi limbile minorităţilor naţ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În ce măsură credeţi că următoarele măsuri ar duce la îmbunătăţirea relaţiilor interetnice?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rocentaje A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În ce măsură credeţi că următoarele măsuri ar duce la îmbunătăţirea relaţiilor interetnice?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rocentaje DEZA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ce condiţii aţi fi de acord cu înfiinţarea în România a unei universităţi de stat cu predare în limba maghiară?</a:t>
            </a:r>
            <a:br>
              <a:rPr sz="24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Subiecţii ne-maghi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În unele localităţi din România, pe indicatorul cu denumirea localităţii figurează atât numele localităţii în limba română, cât şi în limba minorităţii care trăieşte în localitatea respectivă. </a:t>
            </a:r>
            <a:br>
              <a:rPr sz="1600"/>
            </a:br>
            <a:br>
              <a:rPr sz="16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mneavoastră personal aţi văzut asemenea plăcuţe biling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este opinia Dvs. în ceea ce priveşte aceste plăcuţe biling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1989000"/>
          <a:ext cx="914400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914400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este opinia Dvs. în ceea ce priveşte aceste plăcuţe biling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68360" y="198900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afară de plăcuţele bilingve cu denumirea localităţii, există şi alte situaţii în care pot fi expuse inscripţii biling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opinia dvs., ar trebui expuse inscripţii bilingve...</a:t>
            </a:r>
            <a:br>
              <a:rPr sz="2000"/>
            </a:br>
            <a:br>
              <a:rPr sz="2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 clădirea şcolilor cu predare în limba maghiar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 consideraţi că trăiţi faţă de octombrie anul trecu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În opinia dvs., ar trebui expuse inscripţii bilingve...</a:t>
            </a:r>
            <a:br>
              <a:rPr sz="1800"/>
            </a:b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 clădirea poştei, în localităţile din România în care trăiesc mulţi maghiar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În opinia dvs., ar trebui expuse inscripţii bilingve...</a:t>
            </a:r>
            <a:br>
              <a:rPr sz="1800"/>
            </a:b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 clădirea poliţiei, în localităţile din România în care trăiesc mulţi maghiari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În opinia dvs., ar trebui expuse inscripţii bilingve...</a:t>
            </a:r>
            <a:br>
              <a:rPr sz="1800"/>
            </a:b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 clădirea casei de cultură în localităţile din România în care trăiesc mulţi magh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În opinia dvs., ar trebui expuse inscripţii bilingve...</a:t>
            </a:r>
            <a:br>
              <a:rPr sz="1800"/>
            </a:b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În magazinele din localităţile din România în care trăiesc mulţi magh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0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br>
              <a:rPr sz="1800"/>
            </a:b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“Mă deranjează să aud vorbindu-se în jur limba maghiară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0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br>
              <a:rPr sz="1800"/>
            </a:b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“Este nepoliticos ca doi maghiari să vorbească în limba maghiară atunci când în jur sunt şi români, indiferent de subiectul discuţiei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0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br>
              <a:rPr sz="2000"/>
            </a:b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Românii care au învăţat maghiara pentru a vorbi cu prieteni sau cunoscuţi maghiari au procedat corect.”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0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Ar trebui ca românii din zonele locuite aproape în întregime de maghiari să cunoască limba maghiară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0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br>
              <a:rPr sz="2000"/>
            </a:b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“Sunt mulţi maghiari care, deşi ştiu, evită să vorbească în limba română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4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pă părerea dvs. veţi trăi mai bine sau mai prost peste un 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4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4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4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ocentaje exprimând ACORDUL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?</a:t>
            </a:r>
            <a:br>
              <a:rPr sz="24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Numai subiecţii ne-maghiari)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ocentaje exprimând DEZACORDUL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În opinia dvs., următoarele categorii de persoane fac parte sau nu din naţiunea română?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ăspunsurile celor care s-au declarat români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derea răspunsurilor AFIRMATIVE - însemnând: “aparţin naţiunii român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030320" y="5921280"/>
            <a:ext cx="30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*Întrebarea nu s-a pus î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În opinia dvs., următoarele categorii de persoane fac parte sau nu din naţiunea română?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ăspunsurile celor care s-au declarat români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derea răspunsurilor NEGATIVE - “nu aparţin naţiunii române”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 </a:t>
            </a:r>
            <a:br>
              <a:rPr sz="28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“Faptul că sunt cetăţean român...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 </a:t>
            </a:r>
            <a:br>
              <a:rPr sz="28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“Faptul că sunt cetăţean român...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4360" y="1989000"/>
          <a:ext cx="7920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920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 </a:t>
            </a:r>
            <a:br>
              <a:rPr sz="28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Faptul că sunt cetăţean român......”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A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4360" y="1989000"/>
          <a:ext cx="7920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920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? </a:t>
            </a:r>
            <a:br>
              <a:rPr sz="28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Faptul că sunt cetăţean român......”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Deza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4360" y="1989000"/>
          <a:ext cx="7920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920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ROMÂNI (trei alegeri posibil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5120" y="1773360"/>
          <a:ext cx="82724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773360"/>
                    <a:ext cx="8272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97120" y="6035760"/>
            <a:ext cx="827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imele trei calităţi atribuite românilor sunt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spitalitatea, hărnicia şi cumsecădeni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rmează apoi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zitatea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ligenţ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dar şi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ăsare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În general, un p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tternul pozitiv de autoapreciere al membrilor comunităţilor et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levă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etnocentrismul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cestora – iar românii nu fac nici ei, aici, excepţi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preciaţi pe o scală de la 5 la 1! Pentru ca cineva să fie considerat român cât de important este ca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duminica viitoare ar avea loc alegeri parlamentare, dvs. cu ce partid sau alianţă aţi vo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595760" y="1844640"/>
          <a:ext cx="4548240" cy="210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1844640"/>
                    <a:ext cx="454824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4500720" y="4005360"/>
          <a:ext cx="4038480" cy="186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4005360"/>
                    <a:ext cx="4038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duminica viitoare ar avea loc alegeri prezidenţiale, dvs. pe cine aţi vo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716360" y="1989000"/>
          <a:ext cx="403884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989000"/>
                    <a:ext cx="4038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âtă încredere aveţi în ...?</a:t>
            </a:r>
            <a:br>
              <a:rPr sz="2800"/>
            </a:br>
            <a:br>
              <a:rPr sz="28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(Procentaj din total eşantion. Diferenţele de până la 100% reprezintă răspunsuri “nu-l cunosc” şi non-răspunsu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în ceea ce îi priveşte pe romii (ţiganii) din România?</a:t>
            </a:r>
            <a:br>
              <a:rPr sz="2000"/>
            </a:br>
            <a:br>
              <a:rPr sz="20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Procentaj ACORD: Numai subiecţii care nu sunt de etnie rom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4000" y="1773360"/>
          <a:ext cx="85899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5899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în ceea ce îi priveşte pe romii (ţiganii) din România?</a:t>
            </a:r>
            <a:br>
              <a:rPr sz="2000"/>
            </a:br>
            <a:br>
              <a:rPr sz="20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Procentaj DEZACORD: Numai subiecţii care nu sunt de etnie rom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24000" y="1773360"/>
          <a:ext cx="85899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5899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în ceea ce îi priveşte pe romii (ţiganii) din România? - A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24000" y="1773360"/>
          <a:ext cx="85899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5899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 ce măsură sunteţi de acord cu următoarele afirmaţii în ceea ce îi priveşte pe romii (ţiganii) din România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A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24000" y="1773360"/>
          <a:ext cx="85899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5899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În ultimii 5 ani, aţi fost plecat la muncă în străinătate cel puţin 6 lun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câte ori aţi fost plecat la muncă în străinătate după 1989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sta din faţa dvs. enumeră câteva însuşiri. Vă rugăm să alegeţi trei dintre acestea care îi caracterizează cel mai bine pe ROMÂ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10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5120" y="5851440"/>
            <a:ext cx="815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1000" y="5897520"/>
            <a:ext cx="82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ţă de 2002, autopercepţia românilor este cam aceeaşi, pozitivă deşi mai puţin entuziastă: românii se văd astăzi m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i puţ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imitori, harnici, cumsecad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au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inteligenţ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cât acum 4 ani. O noutate o dă însă ponderea semnificativ ma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ortantă a celor care consideră relevantă pentru români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religiozitat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tre următoarele expresii ce descriu relaţiile dintre românii şi maghiarii din România, care vi se pare că exprimă cel mai bine realitat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 în localitatea dvs., cum pot fi descrise relaţiile dintre români şi maghiar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ntre următoarele expresii ce descriu relaţiile dintre românii şi romii (ţiganii) din România, care vi se pare că exprimă cel mai bine realitat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 în localitatea dvs., cum pot fi descrise relaţiile dintre români şi romi (ţigani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 apreciaţi legile româneşti cu privire la drepturile minorităţi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Vă rugăm să indicaţi dacă în cazul Dvs. sunt adevărate următoarele propoziţii:</a:t>
            </a:r>
            <a:br>
              <a:rPr sz="2400"/>
            </a:br>
            <a:br>
              <a:rPr sz="24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(Procentaje din răspunsurile subiecţilor non-maghiari. Diferenţele până la 100% reprezintă non-răspuns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ă rugăm să indicaţi dacă în cazul Dvs. sunt adevărate următoarele propoziţii: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centaje afirmativ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Vă rugăm să indicaţi dacă în cazul Dvs. sunt adevărate următoarele propoziţii:</a:t>
            </a:r>
            <a:br>
              <a:rPr sz="2400"/>
            </a:b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(Procentaje din răspunsurile subiecţilor ne-romi. Diferenţele până la 100% reprezintă non-răspuns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ă rugăm să indicaţi dacă în cazul Dvs. sunt adevărate următoarele propoziţii: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rocentaje din răspunsurile subiecţilor ne-romi. Răspunsuri AFIRM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ă rugăm să indicaţi dacă în cazul Dvs. sunt adevărate următoarele propoziţ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57:33Z</dcterms:created>
  <dc:creator>Sociologie</dc:creator>
  <dc:description/>
  <dc:language>en-US</dc:language>
  <cp:lastModifiedBy>István Horváth</cp:lastModifiedBy>
  <dcterms:modified xsi:type="dcterms:W3CDTF">2006-11-13T12:28:50Z</dcterms:modified>
  <cp:revision>211</cp:revision>
  <dc:subject/>
  <dc:title>Slide 1</dc:title>
</cp:coreProperties>
</file>